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D7A8-B3F8-49E0-98A3-4E87B9A9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227F-52A7-4794-A751-18276D7D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668-CF85-4339-B162-A7E28AD7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827A-3AAA-4334-821B-48E621B5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83A-2C59-442A-89F9-26C9B83D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5667-4715-4694-9DB5-C6E8D667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746D-8EEA-4E34-A63B-69E7A671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EF9D-C375-453F-9AC8-4EC17594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C0E0-B24B-4573-B3E8-DD03527C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7CAD-2EB9-4ABC-965C-E4B127D1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C0FA-5E5B-46DB-9552-F40373C2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38A-A345-479D-A0FD-356B6E25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D2F8-4287-417B-AA58-9A22C2A2CA57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oc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8064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 any given day we can play many different roles in society – eg. A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parent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can drive their kids to school and then go to work and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teach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ir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ules, Norms and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Values – Society carries with it a system of values.  A particular set of values are assigned to each role.  The practitioners of these roles are expected to accept and internalize these valu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Norms – These are rules set out for a particular role that are considered standard behaviour (eg. Catholic Priests are expected to be celibat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ules, Norms and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ules – These are developed by cultures based on their system of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Devi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y behaviour that is different from the societal norm.  It is deviant because we, as a society, do not accept i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viance can range from simple eccentricities to behaviour that harms society or is considered disreput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habili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ology has formed a strong link with the justice sys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fundamental component of modern imprisonment is rehabilitation, or trying to re-educate and resocialize inmates so that they can grow to accept society’s values and n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9218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176040"/>
            <a:ext cx="975348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042920" y="351000"/>
            <a:ext cx="6831000" cy="59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775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at is Sociolog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social science discipline that looks at the development and structure of human society (institutions) and 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ology is the study of social life, social change, and the social causes and consequences of human behaviour. (American Sociological Associatio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ociology Subject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ociologists investigate the structure of groups, organizations, and societies, and how people interact within these contex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All human behavior is social so the subject matter of sociology ranges from the intimate family to the hostile mob; from organized crime to religious cults; from the divisions of race, gender and social class to the shared beliefs of a common culture; and from the sociology of work to the sociology of sports. (AS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he Roles we 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We all play certain roles in our society – Social Scientists refer to this as 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statu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tatus is the term used to describe our position within an institu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g. Fellowes High School – There are many positions at Fellowes ranging from teacher, vice-principal, guidance counselor, principal, student and superintendent – 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Can you put them in order on the hierarch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Hierarchy is the ranking system used in any particular environment based on authority ot powe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ach position or role requires a certain type of expertise which is valued by societ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In order to distinguish between these roles people are expected to dress and act in a certain wa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43:34Z</dcterms:created>
  <dc:creator>Jason</dc:creator>
  <dc:description/>
  <dc:language>en-US</dc:language>
  <cp:lastModifiedBy>Jason</cp:lastModifiedBy>
  <dcterms:modified xsi:type="dcterms:W3CDTF">2010-09-15T16:30:55Z</dcterms:modified>
  <cp:revision>5</cp:revision>
  <dc:subject/>
  <dc:title>Sociology</dc:title>
</cp:coreProperties>
</file>